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DF4-0A3F-468B-B754-385C4162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B5F-C729-4F03-BA3B-421116FF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0AF-6CD2-4886-8CF5-453A79A2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454-9B9A-4B10-BC2F-E1542452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5CC-A6AB-4971-BD63-32F4F565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DDB3-3D7A-4768-8036-2A9CFACE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231-0128-4B1E-860B-75C3C8D1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93C-C5E5-4C42-9476-BF744C8E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C5F-9054-4EAE-B59E-838BAB9D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834-71CC-4C94-A586-D7B08EDB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FEB-3C48-4BC7-959A-D4419470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2BC-9493-44D7-9393-1F201427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170C-C973-4D4A-B0E1-61D105484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 is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2260800" cy="1906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43600" y="25146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124080" y="24382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3:01:32Z</dcterms:created>
  <dc:creator>8736</dc:creator>
  <dc:description/>
  <dc:language>en-US</dc:language>
  <cp:lastModifiedBy>8736</cp:lastModifiedBy>
  <dcterms:modified xsi:type="dcterms:W3CDTF">2010-09-13T13:01:37Z</dcterms:modified>
  <cp:revision>1</cp:revision>
  <dc:subject/>
  <dc:title>Today is ______________</dc:title>
</cp:coreProperties>
</file>